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23B4-C24F-456E-9801-022BBD29020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3D58-1E94-47DD-95C3-0A6B39DF793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E0A-0050-4546-9CB7-E607694B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891-38C5-41A7-9AED-CED2F03F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E49-2ED5-4610-B3D3-B7B94993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E3A-99C3-476B-BF04-E29319C1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CB29-09B8-405A-98E3-386F0346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571A-5CF0-4778-8FF7-610E1831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B75E-0263-439C-860A-AEA303A3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45EE-C8D2-428E-BD0F-F6A9A081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BD7A-8513-4F3F-88FB-CA7A9FBF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A3CD-7C82-4F53-BFDB-28193533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47A4-A9FA-4B4E-8FC0-00C4231F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F060-6961-47D6-9649-3EDBD85E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A77A-05EB-4E0B-AB34-DD38174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E28B-AAA3-4458-AAA3-3F7A60C5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D3AC-564B-4CD5-A28A-EAAAB6BB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C4C1-EDCB-4374-A9FC-EF3E1945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AFAD-5765-4309-9F13-4A0A8840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98BC-DB23-4637-BC9C-833B94C8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0C866-F864-4918-ACFF-A65B72AC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0E21-4867-4549-A375-B454D2FF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4CB6-DFF0-426D-8E3F-CC9DD83D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FB02-6DD2-4A93-A0DC-1DDFC273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ABD-D8CF-4E1A-9524-AD7C4DF2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D831-E19C-41E3-A2BB-2042AA40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21CE-4AC5-4B77-91CB-F4BB414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107DB-9BD0-40BB-960F-BB4719A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D88F-ADE6-4CB3-A5F1-EFDC0AE6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455CF-B13E-45E5-9AC2-7F26C51F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84F56-5B20-47C4-8FAE-5A790332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5070-7A03-43F0-A18F-1A0C7F4C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CBEE-29C1-4DBF-8D56-AA32DFF6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B4DA8-64A8-4B88-A633-F326BA04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7AB3-5A63-4DAA-9FD9-27C345F3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8FA-1B0C-4A45-A741-93B4EC2D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1ED4F-1C06-45A1-A4DD-65BDA98A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C23F-AFD4-47C2-9EB3-F5452434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A787-EF3E-4F7A-9EB9-777D3977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9EF5-1657-4F2D-9ADA-7D626C2F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9886E-07B6-450E-80B6-383CE3B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C6CA-7FDC-4AAA-AEC7-CE91373C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55B16-2358-4A36-ADC4-1DADC649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C189-831C-4A91-9A5A-918E14DA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9ED0-6572-454A-B6D5-164726CA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AF015-00D1-43B4-ADFA-2EB4D0F7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F93-08C9-4B3F-B0CA-E08F712D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4D78A-80DA-4647-8A02-D6F7790A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47961-0D6A-4C3D-ACB2-D3574F4B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05D2C-612E-42DB-8014-A75D9C53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BAC2-AF21-49C6-A3F4-1F08BB90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2EE12-A916-4B09-98E4-743BDBE5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F5A7-CF65-4A0D-8B2E-EC64D6F8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A68C0-F02A-4362-8BBB-84222063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49A5A-C953-4299-9CCD-D836CAA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D2D89-AD19-47FC-8E26-060E6042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9D76C-6AD9-4C6B-A1E0-DB50695D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D67-5699-4952-B6E1-304302A1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C9DD-CCDA-40F6-A513-B2BF7A61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19F2-5F5B-4DBC-BCC2-379A7D29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E04CF-DA54-49F9-9147-FC4F2699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50232-476D-42F2-A025-443CA254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61235-B790-4050-9458-D5C8E388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152F-01ED-4928-98C2-5CA9041A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BCE40-4518-453F-9ED0-C3C14CEC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4E657-7A87-4BB1-AEA8-990DCF54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0DB79-98A5-4FA5-8B02-406870E3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48D80-686F-4EA2-9F6F-D3BD374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48D-166D-4ECA-A2E0-1A4E2D3E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20F42-0B69-483C-9AFB-E63FAF14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8F0D1-D800-48D0-817B-929E3890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9F376-2CD8-46D7-BC58-D4F8ABDC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BD2-E0E0-492F-B3DE-B7928E2E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111-A0E8-40CE-981C-8063BFA0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03E7-8FF9-4AA4-97AF-995E70E20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A32F-3D1E-46EA-8BCC-47F2BDF1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0C6E-18C4-44B5-9384-F1C7755C00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00F1-1A84-4219-B1D6-0BA0B750A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650C-AFAE-40B1-AAC7-6CA5737BD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603F-5C07-42A6-8480-38C45E06B66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C:\Users\Amy.Audoux\AppData\Local\Microsoft\Windows\Temporary Internet Files\Content.IE5\NHVS7DH2\MP900422600[1]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j0186348"/>
          <p:cNvPicPr/>
          <p:nvPr/>
        </p:nvPicPr>
        <p:blipFill>
          <a:blip r:embed="rId1"/>
          <a:stretch/>
        </p:blipFill>
        <p:spPr>
          <a:xfrm>
            <a:off x="609480" y="68580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MCj02807370000[1]"/>
          <p:cNvPicPr/>
          <p:nvPr/>
        </p:nvPicPr>
        <p:blipFill>
          <a:blip r:embed="rId2"/>
          <a:stretch/>
        </p:blipFill>
        <p:spPr>
          <a:xfrm>
            <a:off x="3505320" y="6858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MCj03976120000[1]"/>
          <p:cNvPicPr/>
          <p:nvPr/>
        </p:nvPicPr>
        <p:blipFill>
          <a:blip r:embed="rId3"/>
          <a:stretch/>
        </p:blipFill>
        <p:spPr>
          <a:xfrm>
            <a:off x="6553080" y="53352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MCj03985530000[1]"/>
          <p:cNvPicPr/>
          <p:nvPr/>
        </p:nvPicPr>
        <p:blipFill>
          <a:blip r:embed="rId4"/>
          <a:stretch/>
        </p:blipFill>
        <p:spPr>
          <a:xfrm>
            <a:off x="762120" y="3733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MCj04321010000[1]"/>
          <p:cNvPicPr/>
          <p:nvPr/>
        </p:nvPicPr>
        <p:blipFill>
          <a:blip r:embed="rId5"/>
          <a:stretch/>
        </p:blipFill>
        <p:spPr>
          <a:xfrm>
            <a:off x="3809880" y="3809880"/>
            <a:ext cx="2210040" cy="2210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MCj02328920000[1]"/>
          <p:cNvPicPr/>
          <p:nvPr/>
        </p:nvPicPr>
        <p:blipFill>
          <a:blip r:embed="rId6"/>
          <a:stretch/>
        </p:blipFill>
        <p:spPr>
          <a:xfrm>
            <a:off x="6705720" y="35812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orsque tu penses aux provinces Atlantiques,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à quoi penses-tu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uris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ll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rritu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or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ma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litiq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onn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vironne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utr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lors, qu’est-ce que c’es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CULTURE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ULTURE est la ma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ère de vivre partagée par un groupe de personnes.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  <a:ea typeface="Tahoma"/>
              </a:rPr>
              <a:t> Elle reflète ce que nous sommes et qui nous somm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LA CULTURE comprend plusieurs différents asp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s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aspects de la cultur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369" name="Diagram 5"/>
          <p:cNvGrpSpPr/>
          <p:nvPr/>
        </p:nvGrpSpPr>
        <p:grpSpPr>
          <a:xfrm>
            <a:off x="2286000" y="1905120"/>
            <a:ext cx="4417560" cy="4809240"/>
            <a:chOff x="2286000" y="1905120"/>
            <a:chExt cx="4417560" cy="4809240"/>
          </a:xfrm>
        </p:grpSpPr>
        <p:sp>
          <p:nvSpPr>
            <p:cNvPr id="370" name="_s1030"/>
            <p:cNvSpPr/>
            <p:nvPr/>
          </p:nvSpPr>
          <p:spPr>
            <a:xfrm flipH="1">
              <a:off x="3544920" y="4404960"/>
              <a:ext cx="514440" cy="32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031"/>
            <p:cNvSpPr/>
            <p:nvPr/>
          </p:nvSpPr>
          <p:spPr>
            <a:xfrm>
              <a:off x="2286000" y="4404960"/>
              <a:ext cx="133848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’environn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hysiqu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032"/>
            <p:cNvSpPr/>
            <p:nvPr/>
          </p:nvSpPr>
          <p:spPr>
            <a:xfrm>
              <a:off x="4571640" y="4733280"/>
              <a:ext cx="0" cy="661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_s1033"/>
            <p:cNvSpPr/>
            <p:nvPr/>
          </p:nvSpPr>
          <p:spPr>
            <a:xfrm>
              <a:off x="3978720" y="5394960"/>
              <a:ext cx="118512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`histoi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1034"/>
            <p:cNvSpPr/>
            <p:nvPr/>
          </p:nvSpPr>
          <p:spPr>
            <a:xfrm>
              <a:off x="5083200" y="4404960"/>
              <a:ext cx="514440" cy="329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_s1035"/>
            <p:cNvSpPr/>
            <p:nvPr/>
          </p:nvSpPr>
          <p:spPr>
            <a:xfrm>
              <a:off x="5518800" y="4404960"/>
              <a:ext cx="118476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 vie socia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_s1036"/>
            <p:cNvSpPr/>
            <p:nvPr/>
          </p:nvSpPr>
          <p:spPr>
            <a:xfrm flipV="1">
              <a:off x="4917240" y="3085200"/>
              <a:ext cx="423360" cy="480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_s1037"/>
            <p:cNvSpPr/>
            <p:nvPr/>
          </p:nvSpPr>
          <p:spPr>
            <a:xfrm>
              <a:off x="5289480" y="2097360"/>
              <a:ext cx="118476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 vi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économiqu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_s1038"/>
            <p:cNvSpPr/>
            <p:nvPr/>
          </p:nvSpPr>
          <p:spPr>
            <a:xfrm flipH="1" flipV="1">
              <a:off x="3733200" y="3085200"/>
              <a:ext cx="456840" cy="49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_s1039"/>
            <p:cNvSpPr/>
            <p:nvPr/>
          </p:nvSpPr>
          <p:spPr>
            <a:xfrm>
              <a:off x="2816640" y="1905120"/>
              <a:ext cx="118512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a vi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litiqu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_s1040"/>
            <p:cNvSpPr/>
            <p:nvPr/>
          </p:nvSpPr>
          <p:spPr>
            <a:xfrm>
              <a:off x="3978720" y="3417120"/>
              <a:ext cx="1185120" cy="13194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 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Les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aspects de la cultur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Tahoma"/>
              </a:rPr>
              <a:t>L`environnement physique: 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Comment les gens interviennent-ils dans leur environnement physiqu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Tahoma"/>
              </a:rPr>
              <a:t>L`histoire: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 Quelles sont les origines de la culture et comment les événements ont-ils donné lieu à des changements avec le temp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00"/>
                </a:solidFill>
                <a:latin typeface="Tahoma"/>
              </a:rPr>
              <a:t>La vie sociale: 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Comment est-ce que les individus et les groupes de la société réagissent-ils les uns envers les autres? Quelles sont les religions, les valeurs, les traditio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[cont.]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Tahoma"/>
              </a:rPr>
              <a:t>La vie économique: 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Comment les gens gagnent-ils leur vie? Comment leur travail influence-t-il leur style de vi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Tahoma"/>
              </a:rPr>
              <a:t>La vie politique: 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Comment les individues qui forment la société s`organisent-ils pour vivre ensemble dans la paix et la sécurité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lnSpc>
                <a:spcPct val="115000"/>
              </a:lnSpc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’est-ce que les images suivantes nous disent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Tahoma"/>
              </a:rPr>
              <a:t>à propos de notre société?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Tahoma"/>
              </a:rPr>
              <a:t>-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Pour les 3 prochains écrans, explique ce qu’on peut apprendre à propos de notre culture en regardant les images. Considère les 5 aspects de la culture.  (***Il y a 6 photos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  <a:ea typeface="Tahoma"/>
              </a:rPr>
              <a:t>séparées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 sur le dernier écran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e5ffff"/>
                </a:solidFill>
                <a:latin typeface="Tahoma"/>
              </a:rPr>
              <a:t>Qu`est-ce que la photo nous dit à propos de: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387" name="Content Placeholder 5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5105520" cy="4343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L`environnement:  Un climat froid influence nos activité en hiver. Le hockey est un sport très populaire et le Canada est très bon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L`histoire: Le Canada est connu pour la création du sport au début du 19</a:t>
            </a:r>
            <a:r>
              <a:rPr b="0" lang="fr-CA" sz="1400" spc="-1" strike="noStrike" baseline="30000">
                <a:solidFill>
                  <a:srgbClr val="ffffff"/>
                </a:solidFill>
                <a:latin typeface="Tahoma"/>
              </a:rPr>
              <a:t>ième</a:t>
            </a: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 siècle. Le sport est considéré comme le plus populaire au Canada et est joué par des millions autour du pay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La vie sociale: Un des loisir le plus populaire, les canadiens se réunissent pour célébrer leurs équipes préférées autour du pays!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La vie économique: 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ahoma"/>
              </a:rPr>
              <a:t>La vie politique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C:\Users\Amy.Audoux\AppData\Local\Microsoft\Windows\Temporary Internet Files\Content.IE5\572QX012\MP900406592[1].jpg"/>
          <p:cNvPicPr/>
          <p:nvPr/>
        </p:nvPicPr>
        <p:blipFill>
          <a:blip r:embed="rId1"/>
          <a:stretch/>
        </p:blipFill>
        <p:spPr>
          <a:xfrm>
            <a:off x="380880" y="533520"/>
            <a:ext cx="8421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4:23:48Z</dcterms:created>
  <dc:creator>Administrator</dc:creator>
  <dc:description/>
  <dc:language>en-US</dc:language>
  <cp:lastModifiedBy>ED18</cp:lastModifiedBy>
  <dcterms:modified xsi:type="dcterms:W3CDTF">2015-01-28T02:19:17Z</dcterms:modified>
  <cp:revision>35</cp:revision>
  <dc:subject/>
  <dc:title>Slide 1</dc:title>
</cp:coreProperties>
</file>